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CC5-3AB6-42D5-9FF2-72B08FA7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FD2-B2BD-431D-9CAB-8E24DC3A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562-8956-4D97-9581-4703DA9D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CF4-CE15-41FB-B7EE-97BBD169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7D2-9ECD-446F-BDD0-55CC4D6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261-4969-451C-948C-47F89B97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2DB-A180-403F-8FD6-0DBC1C43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4D7-2BE9-4F41-9A98-293FE67A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F51-9724-4C64-816F-4E49DAA7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E09-09CF-4CB7-9517-370438BD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6F4-6D31-4545-9BC7-CDBF868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D95-C26D-4CFA-995E-FAC5EFE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9F0C-AFD5-4B8A-A400-91596D5C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773360"/>
            <a:ext cx="511344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FETTE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5084640"/>
            <a:ext cx="4937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urier New"/>
              </a:rPr>
              <a:t>von Julika &amp; Jenna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as ist Fett &amp; wie ist es aufgeba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organ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ölige, schmierige, wachsartige Substa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Triglyce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8 bis 24 Kohlenstoffat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einer Zu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sch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e Fa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 kein Geruch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uppe organischer 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stehen bei der Hydrolyse von F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. B. Methan- u. Ameise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rden als Rohstoffe eingeset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arin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sättigte und Ungesättigte Fett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igenscha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chmelz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Löslich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Rauchpu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Chemische Kenn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eifungs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Iod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äure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Fette in der Ernä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chtbar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teckte F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tt als Geschmacksträ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3:52:12Z</dcterms:created>
  <dc:creator>template</dc:creator>
  <dc:description/>
  <dc:language>en-US</dc:language>
  <cp:lastModifiedBy>BBS Winsen</cp:lastModifiedBy>
  <dcterms:modified xsi:type="dcterms:W3CDTF">2006-09-28T08:32:05Z</dcterms:modified>
  <cp:revision>3</cp:revision>
  <dc:subject/>
  <dc:title>Folie 1</dc:title>
</cp:coreProperties>
</file>